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4FA61-FB44-48FF-AE2B-3D903BBBC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29136-429F-4F1C-A1DF-3EBF8DD24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920880" y="746280"/>
            <a:ext cx="4965480" cy="3725640"/>
          </a:xfrm>
          <a:prstGeom prst="rect">
            <a:avLst/>
          </a:prstGeom>
          <a:ln w="0">
            <a:noFill/>
          </a:ln>
        </p:spPr>
      </p:sp>
      <p:sp>
        <p:nvSpPr>
          <p:cNvPr id="11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4E56-783E-4399-86E3-ACB5156AE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920880" y="746280"/>
            <a:ext cx="4965480" cy="3725640"/>
          </a:xfrm>
          <a:prstGeom prst="rect">
            <a:avLst/>
          </a:prstGeom>
          <a:ln w="0">
            <a:noFill/>
          </a:ln>
        </p:spPr>
      </p:sp>
      <p:sp>
        <p:nvSpPr>
          <p:cNvPr id="12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639BF-840E-4AD5-8B07-8B568FF41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920880" y="746280"/>
            <a:ext cx="4965480" cy="3725640"/>
          </a:xfrm>
          <a:prstGeom prst="rect">
            <a:avLst/>
          </a:prstGeom>
          <a:ln w="0">
            <a:noFill/>
          </a:ln>
        </p:spPr>
      </p:sp>
      <p:sp>
        <p:nvSpPr>
          <p:cNvPr id="12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20880" y="746280"/>
            <a:ext cx="4965480" cy="3725640"/>
          </a:xfrm>
          <a:prstGeom prst="rect">
            <a:avLst/>
          </a:prstGeom>
          <a:ln w="0">
            <a:noFill/>
          </a:ln>
        </p:spPr>
      </p:sp>
      <p:sp>
        <p:nvSpPr>
          <p:cNvPr id="12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2624-6A0B-4D1F-88EC-8FECC66F0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E84BA-0555-4F12-8D2B-BA2D9FDDD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98E39-57BE-4EA4-9C0C-B7AEF12A4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E360A-A8AB-475D-AC77-ED1EC59C9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ACE06-42CF-4FE2-AF4C-5105E3A50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DDC74B-23ED-4A15-ACC6-89CF0431BA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30AC8E-DA6D-465E-8E41-E655D77C08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D21D2F-5247-4C91-972F-D1F988B36A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902FB6-D042-4A80-AA9E-855962ADE0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C9D561-499D-4BC7-B2BE-18A70CBA2C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380133B-C6E9-4CF0-8C19-F30A44CB3E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5EA88B-4B7B-45AA-B8CA-81CD961B1C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CF24B-5961-44E0-9C50-8B122EA02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2C73B5-009A-4DBD-859C-921EE3B139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CF73AB-E47C-4494-AB3C-C9CEB454F6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7F5C93-7ED0-4628-9C79-B10F4BD68A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702702-00E4-4BB0-B8CA-CBD6899895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85EFBF-BB5B-4115-898B-70E9DBEC0A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2BFFE-176B-427B-8D9A-4F7915459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46770-BAA7-4D5C-896B-DD46B105B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04322-557D-416C-A7C8-A86E58329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F20C2-FA09-4ECB-9B6D-A3C65EAD3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CA51E-4C60-4C9E-B9DD-9223C7FF2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A7DF3-51AA-49C8-9CCD-E9A2C8F69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4739C-1155-4226-9867-0F94E2377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340B-B4F0-474E-9FB7-1052834AE0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D54AF61-7DA8-4B60-890B-A36E075291A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258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Rapid Response Team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F83111B-6330-4D7A-BBAA-E5C9B4A83B3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258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Rapid Response Teams</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939A3-FC00-4B8D-82E5-1CA4E4FC4C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0" y="2205000"/>
            <a:ext cx="9144000" cy="1657440"/>
          </a:xfrm>
          <a:prstGeom prst="rect">
            <a:avLst/>
          </a:prstGeom>
          <a:solidFill>
            <a:srgbClr val="00b0f0"/>
          </a:solidFill>
          <a:ln w="0">
            <a:noFill/>
          </a:ln>
        </p:spPr>
        <p:txBody>
          <a:bodyPr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Équipes d’intervention rapid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a:t>
            </a:r>
            <a:endParaRPr b="0" lang="en-US" sz="4200" spc="-1" strike="noStrike">
              <a:solidFill>
                <a:srgbClr val="000000"/>
              </a:solidFill>
              <a:latin typeface="Arial"/>
            </a:endParaRPr>
          </a:p>
        </p:txBody>
      </p:sp>
      <p:sp>
        <p:nvSpPr>
          <p:cNvPr id="99" name=""/>
          <p:cNvSpPr txBox="1"/>
          <p:nvPr/>
        </p:nvSpPr>
        <p:spPr>
          <a:xfrm>
            <a:off x="458640" y="1557360"/>
            <a:ext cx="8686800" cy="295272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 général</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Équipes d’experts pluridisciplinaires, fonctionnelles et techniques, pouvant être déployées rapidement en cas de situation d’urg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a:t>
            </a:r>
            <a:endParaRPr b="0" lang="en-US" sz="4200" spc="-1" strike="noStrike">
              <a:solidFill>
                <a:srgbClr val="000000"/>
              </a:solidFill>
              <a:latin typeface="Arial"/>
            </a:endParaRPr>
          </a:p>
        </p:txBody>
      </p:sp>
      <p:sp>
        <p:nvSpPr>
          <p:cNvPr id="101" name=""/>
          <p:cNvSpPr txBox="1"/>
          <p:nvPr/>
        </p:nvSpPr>
        <p:spPr>
          <a:xfrm>
            <a:off x="457200" y="1412640"/>
            <a:ext cx="8686800" cy="4824360"/>
          </a:xfrm>
          <a:prstGeom prst="rect">
            <a:avLst/>
          </a:prstGeom>
          <a:noFill/>
          <a:ln w="0">
            <a:noFill/>
          </a:ln>
        </p:spPr>
        <p:txBody>
          <a:bodyPr anchor="t">
            <a:normAutofit/>
          </a:bodyPr>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Objectifs intermédiaires</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uligner l’importance d’avoir des équipes d’intervention rapide pleinement opérationnelles, capables d’agir immédiatement, dès la notification d’un cas suspect</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écrire la composition et le mandat de ces équipes</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résenter brièvement les activités de ces équip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Définition</a:t>
            </a:r>
            <a:endParaRPr b="0" lang="en-US" sz="4400" spc="-1" strike="noStrike">
              <a:solidFill>
                <a:srgbClr val="000000"/>
              </a:solidFill>
              <a:latin typeface="Arial"/>
            </a:endParaRPr>
          </a:p>
        </p:txBody>
      </p:sp>
      <p:sp>
        <p:nvSpPr>
          <p:cNvPr id="103" name=""/>
          <p:cNvSpPr txBox="1"/>
          <p:nvPr/>
        </p:nvSpPr>
        <p:spPr>
          <a:xfrm>
            <a:off x="468360" y="764640"/>
            <a:ext cx="8229600" cy="4929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Équipe d’intervention rapide : groupe d’experts expérimentés pouvant intervenir n’importe où dans le pays sous 24 heures. Aident à endiguer/stopper précocement une flambée. Enquêtent sur le(s) premier(s) cas, fournissent des soins dans un établissement central, s’engagent auprès de la population et exécutent des mesures de prévention et de lutte contre l’infection</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Times New Roman"/>
              </a:rPr>
              <a:t>Équipe d’intervention rapide : composition</a:t>
            </a:r>
            <a:endParaRPr b="0" lang="en-US" sz="3400" spc="-1" strike="noStrike">
              <a:solidFill>
                <a:srgbClr val="000000"/>
              </a:solidFill>
              <a:latin typeface="Arial"/>
            </a:endParaRPr>
          </a:p>
        </p:txBody>
      </p:sp>
      <p:sp>
        <p:nvSpPr>
          <p:cNvPr id="105" name=""/>
          <p:cNvSpPr txBox="1"/>
          <p:nvPr/>
        </p:nvSpPr>
        <p:spPr>
          <a:xfrm>
            <a:off x="324000" y="1052640"/>
            <a:ext cx="4032000" cy="3744720"/>
          </a:xfrm>
          <a:prstGeom prst="rect">
            <a:avLst/>
          </a:prstGeom>
          <a:noFill/>
          <a:ln w="0">
            <a:noFill/>
          </a:ln>
        </p:spPr>
        <p:txBody>
          <a:bodyPr anchor="t">
            <a:normAutofit fontScale="99000"/>
          </a:bodyPr>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f0"/>
                </a:solidFill>
                <a:latin typeface="Arial"/>
                <a:ea typeface="Arial"/>
              </a:rPr>
              <a:t>Nationale </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clinicien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épidémiologiste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expert des laboratoires </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anthropologue/mob sociale</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logisticien</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a:t>
            </a:r>
            <a:r>
              <a:rPr b="1" lang="en-GB" sz="1900" spc="-1" strike="noStrike">
                <a:solidFill>
                  <a:srgbClr val="002060"/>
                </a:solidFill>
                <a:latin typeface="Arial"/>
                <a:ea typeface="Arial"/>
              </a:rPr>
              <a:t>expert en soutien psychosocial</a:t>
            </a:r>
            <a:endParaRPr b="0" lang="en-US" sz="19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gestionnaire de donnée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équipe chargée des inhumations : 7 personne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expert des média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Content Placeholder 2"/>
          <p:cNvSpPr/>
          <p:nvPr/>
        </p:nvSpPr>
        <p:spPr>
          <a:xfrm>
            <a:off x="4356000" y="1052640"/>
            <a:ext cx="4537080" cy="34560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f0"/>
                </a:solidFill>
                <a:latin typeface="Arial"/>
                <a:ea typeface="Arial"/>
              </a:rPr>
              <a:t>Infranationa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clinicien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épidémiologist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technicien de laboratoi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anthropologue/mob socia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logisticie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1 travailleur social/infirmier psychiatriqu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1 employé en charge des donné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équipe chargée des inhumations : 7 personn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1 responsable des médias locaux</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Content Placeholder 2"/>
          <p:cNvSpPr/>
          <p:nvPr/>
        </p:nvSpPr>
        <p:spPr>
          <a:xfrm>
            <a:off x="611280" y="5300640"/>
            <a:ext cx="8208720" cy="7542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060"/>
                </a:solidFill>
                <a:latin typeface="Arial"/>
              </a:rPr>
              <a:t>Le nombre d’équipes infranationales  dépend de :  niveau de risque / disponibilité des ressources humaines / situation géographiqu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219320"/>
            <a:ext cx="8229600" cy="4525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Une au niveau national et au moins une au niveau infranational</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ormer le personnel médical au module OMS-AFRO appliqué au Libéria (dont centre de traitement fictif d’Ebola)</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artographie des centres de santé et repérage des sites possibles de centres de traitement fictif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ormer les bénévoles communautaires et les épidémiologistes des équipes infranationales (hotline 24h/24)</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Soutien financier d’ETF</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Exercice de simulation</a:t>
            </a:r>
            <a:endParaRPr b="0" lang="en-US" sz="2600" spc="-1" strike="noStrike">
              <a:solidFill>
                <a:srgbClr val="000000"/>
              </a:solidFill>
              <a:latin typeface="Arial"/>
            </a:endParaRPr>
          </a:p>
        </p:txBody>
      </p:sp>
      <p:sp>
        <p:nvSpPr>
          <p:cNvPr id="109"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Times New Roman"/>
              </a:rPr>
              <a:t>Équipe d’intervention rapide : rôle</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250920" y="1052640"/>
            <a:ext cx="8518320" cy="4176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Times New Roman"/>
              </a:rPr>
              <a:t>Équipe d’intervention rapide : rôle (2)</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
        <p:nvSpPr>
          <p:cNvPr id="112" name="Rectangle 1"/>
          <p:cNvSpPr/>
          <p:nvPr/>
        </p:nvSpPr>
        <p:spPr>
          <a:xfrm>
            <a:off x="457200" y="1052640"/>
            <a:ext cx="853452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r des stratégies et des mesures appropriées (dont des activités de communication sur les risques)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parer des rapports d’enquête détaillés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er à l’évaluation finale de la riposte à la flamb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197000"/>
            <a:ext cx="8229600" cy="49291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quêter sur les rumeurs, les flambées signalées et autres urgences de santé publique</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ordonner les actions d’intervention rapide avec les partenaires et autres institutions</a:t>
            </a:r>
            <a:endParaRPr b="0" lang="en-US" sz="3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cer à appliquer les mesures de lutte proposées, dont le renforcement des capacité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Times New Roman"/>
              </a:rPr>
              <a:t>Équipe d’intervention rapide : rôle (3)</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5564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5400" spc="-1" strike="noStrike">
                <a:solidFill>
                  <a:srgbClr val="0000ff"/>
                </a:solidFill>
                <a:latin typeface="Arial"/>
              </a:rPr>
              <a:t>Merci</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Anna</cp:lastModifiedBy>
  <cp:lastPrinted>2013-10-01T07:19:12Z</cp:lastPrinted>
  <dcterms:modified xsi:type="dcterms:W3CDTF">2014-12-01T18:32:31Z</dcterms:modified>
  <cp:revision>166</cp:revision>
  <dc:subject/>
  <dc:title>DPC Training and Technical Update</dc:title>
</cp:coreProperties>
</file>